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RZUTNIK.WAV" ContentType="audio/x-wav"/>
  <Override PartName="/ppt/media/image18.wmf" ContentType="image/x-wmf"/>
  <Override PartName="/ppt/media/image15.png" ContentType="image/png"/>
  <Override PartName="/ppt/media/image14.wmf" ContentType="image/x-wmf"/>
  <Override PartName="/ppt/media/image10.png" ContentType="image/png"/>
  <Override PartName="/ppt/media/image1.jpeg" ContentType="image/jpeg"/>
  <Override PartName="/ppt/media/image17.png" ContentType="image/png"/>
  <Override PartName="/ppt/media/MIJANIE.WAV" ContentType="audio/x-wav"/>
  <Override PartName="/ppt/media/STLUCZKA.WAV" ContentType="audio/x-wav"/>
  <Override PartName="/ppt/media/image21.png" ContentType="image/png"/>
  <Override PartName="/ppt/media/image8.png" ContentType="image/png"/>
  <Override PartName="/ppt/media/DZWONKI.WAV" ContentType="audio/x-wav"/>
  <Override PartName="/ppt/media/image6.wmf" ContentType="image/x-wmf"/>
  <Override PartName="/ppt/media/image9.png" ContentType="image/png"/>
  <Override PartName="/ppt/media/image39.png" ContentType="image/png"/>
  <Override PartName="/ppt/media/Nauka%20B%C5%82%C4%85d%20programu.wav" ContentType="audio/x-wav"/>
  <Override PartName="/ppt/media/image19.png" ContentType="image/png"/>
  <Override PartName="/ppt/media/image20.jpeg" ContentType="image/jpeg"/>
  <Override PartName="/ppt/media/image16.png" ContentType="image/png"/>
  <Override PartName="/ppt/media/MASZYNA.WAV" ContentType="audio/x-wav"/>
  <Override PartName="/ppt/media/camera.wav" ContentType="audio/x-wav"/>
  <Override PartName="/ppt/media/image12.wmf" ContentType="image/x-wmf"/>
  <Override PartName="/ppt/media/image25.png" ContentType="image/png"/>
  <Override PartName="/ppt/media/image27.wmf" ContentType="image/x-wmf"/>
  <Override PartName="/ppt/media/SWIST.WAV" ContentType="audio/x-wav"/>
  <Override PartName="/ppt/media/PISKOPON.WAV" ContentType="audio/x-wav"/>
  <Override PartName="/ppt/media/image5.png" ContentType="image/png"/>
  <Override PartName="/ppt/media/image13.wmf" ContentType="image/x-wmf"/>
  <Override PartName="/ppt/media/image30.png" ContentType="image/png"/>
  <Override PartName="/ppt/media/image28.wmf" ContentType="image/x-wmf"/>
  <Override PartName="/ppt/media/image29.png" ContentType="image/png"/>
  <Override PartName="/ppt/media/image31.png" ContentType="image/png"/>
  <Override PartName="/ppt/media/image24.png" ContentType="image/png"/>
  <Override PartName="/ppt/media/image35.wmf" ContentType="image/x-wmf"/>
  <Override PartName="/ppt/media/image36.png" ContentType="image/png"/>
  <Override PartName="/ppt/media/image37.wmf" ContentType="image/x-wmf"/>
  <Override PartName="/ppt/media/image26.wmf" ContentType="image/x-wmf"/>
  <Override PartName="/ppt/media/image38.wmf" ContentType="image/x-wmf"/>
  <Override PartName="/ppt/media/Podr%C3%B3%C5%BC%20Opr%C3%B3%C5%BCnienie%20kosza.wav" ContentType="audio/x-wav"/>
  <Override PartName="/ppt/media/image23.png" ContentType="image/png"/>
  <Override PartName="/ppt/media/image22.png" ContentType="image/png"/>
  <Override PartName="/ppt/media/image33.png" ContentType="image/png"/>
  <Override PartName="/ppt/media/image3.png" ContentType="image/png"/>
  <Override PartName="/ppt/media/image11.wmf" ContentType="image/x-wmf"/>
  <Override PartName="/ppt/media/Podr%C3%B3%C5%BC%20Maksymalizacja.wav" ContentType="audio/x-wav"/>
  <Override PartName="/ppt/media/image7.png" ContentType="image/png"/>
  <Override PartName="/ppt/media/image2.png" ContentType="image/png"/>
  <Override PartName="/ppt/media/image32.png" ContentType="image/png"/>
  <Override PartName="/ppt/media/KASAZARJ.WAV" ContentType="audio/x-wav"/>
  <Override PartName="/ppt/media/image4.png" ContentType="image/png"/>
  <Override PartName="/ppt/media/image3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4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1" initials="1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2.xml><?xml version="1.0" encoding="utf-8"?>
<p:cmLst xmlns:p="http://schemas.openxmlformats.org/presentationml/2006/main">
  <p:cm authorId="0" dt="2003-05-23T08:15:44.570000000" idx="1">
    <p:pos x="10" y="10"/>
    <p:text/>
  </p:cm>
  <p:cm authorId="0" dt="2003-05-23T08:15:58.350000000" idx="2">
    <p:pos x="146" y="146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43C-628A-48B4-8962-B98B728E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65A-01AA-410A-BA1C-2A0714C5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2EB-165D-465C-B2BC-EEA60034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A13-5E4C-4847-B37D-290974AD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16D8-3E0D-4EFB-8FCD-CE788950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3E50-AA2B-436D-AFE2-707DB61F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F025-9266-462D-98AC-1F3D0CA3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D65A-8B41-4EAA-9D7D-6C0CC0F9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4920-3305-4621-A1E4-DC1F1381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456840"/>
            <a:ext cx="6095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B128-EF7B-4401-A9EE-760A8114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9915-4EB8-48C8-A297-673DB742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C8E-1E12-4964-BB22-3A972774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DD5E-7A55-4CCF-9430-B82E1FD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DBC6-BBEE-40B1-8C90-0600166C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8D00-80F4-403D-9448-CBD141CF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936D-26C9-4888-AAB4-352B9F7B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EB01-3A9F-4A6F-9FCB-71A41DF8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910-A524-44BE-BFB3-5D287789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B08-0BEE-46D9-AE65-FE33868A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A0E-B807-478D-A455-00BFFE2D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456840"/>
            <a:ext cx="6095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CF6-CC63-497C-B3EC-43ADDAA9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161-EC68-4287-AB6C-903D0317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C11-0F27-49C8-9704-4F1F4E0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CBF-EC0D-4121-B7CE-CC05C60A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DB87-A735-4745-AB02-ED45AD6BCD9E}" type="slidenum">
              <a:rPr b="0" lang="pl-PL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4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6350-7843-4524-96F6-C045C818BD43}" type="slidenum">
              <a:rPr b="0" lang="pl-PL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auka%20B&#322;&#261;d%20programu.wav"/><Relationship Id="rId2" Type="http://schemas.openxmlformats.org/officeDocument/2006/relationships/audio" Target="../media/Podr&#243;&#380;%20Opr&#243;&#380;nienie%20kosza.wav"/><Relationship Id="rId3" Type="http://schemas.openxmlformats.org/officeDocument/2006/relationships/audio" Target="../media/camera.wav"/><Relationship Id="rId4" Type="http://schemas.openxmlformats.org/officeDocument/2006/relationships/audio" Target="../media/PISKOPO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Nauka%20B&#322;&#261;d%20programu.wav"/><Relationship Id="rId5" Type="http://schemas.openxmlformats.org/officeDocument/2006/relationships/audio" Target="../media/camera.wav"/><Relationship Id="rId6" Type="http://schemas.openxmlformats.org/officeDocument/2006/relationships/audio" Target="../media/DZWONKI.WAV"/><Relationship Id="rId7" Type="http://schemas.openxmlformats.org/officeDocument/2006/relationships/audio" Target="../media/camera.wav"/><Relationship Id="rId8" Type="http://schemas.openxmlformats.org/officeDocument/2006/relationships/audio" Target="../media/Podr&#243;&#380;%20Maksymalizacja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MASZYNA.WAV"/><Relationship Id="rId7" Type="http://schemas.openxmlformats.org/officeDocument/2006/relationships/audio" Target="../media/STLUCZKA.WAV"/><Relationship Id="rId8" Type="http://schemas.openxmlformats.org/officeDocument/2006/relationships/audio" Target="../media/STLUCZKA.WAV"/><Relationship Id="rId9" Type="http://schemas.openxmlformats.org/officeDocument/2006/relationships/audio" Target="../media/STLUCZKA.WAV"/><Relationship Id="rId10" Type="http://schemas.openxmlformats.org/officeDocument/2006/relationships/audio" Target="../media/camera.wav"/><Relationship Id="rId11" Type="http://schemas.openxmlformats.org/officeDocument/2006/relationships/audio" Target="../media/Podr&#243;&#380;%20Maksymalizacja.wav"/><Relationship Id="rId12" Type="http://schemas.openxmlformats.org/officeDocument/2006/relationships/audio" Target="../media/Podr&#243;&#380;%20Maksymalizacj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audio" Target="../media/Nauka%20B&#322;&#261;d%20programu.wav"/><Relationship Id="rId12" Type="http://schemas.openxmlformats.org/officeDocument/2006/relationships/audio" Target="../media/MASZYNA.WAV"/><Relationship Id="rId13" Type="http://schemas.openxmlformats.org/officeDocument/2006/relationships/audio" Target="../media/DZWONKI.WAV"/><Relationship Id="rId14" Type="http://schemas.openxmlformats.org/officeDocument/2006/relationships/audio" Target="../media/camera.wav"/><Relationship Id="rId15" Type="http://schemas.openxmlformats.org/officeDocument/2006/relationships/audio" Target="../media/DZWONKI.WAV"/><Relationship Id="rId16" Type="http://schemas.openxmlformats.org/officeDocument/2006/relationships/audio" Target="../media/camera.wav"/><Relationship Id="rId17" Type="http://schemas.openxmlformats.org/officeDocument/2006/relationships/audio" Target="../media/DZWONKI.WAV"/><Relationship Id="rId18" Type="http://schemas.openxmlformats.org/officeDocument/2006/relationships/audio" Target="../media/camera.wav"/><Relationship Id="rId19" Type="http://schemas.openxmlformats.org/officeDocument/2006/relationships/audio" Target="../media/DZWONKI.WAV"/><Relationship Id="rId20" Type="http://schemas.openxmlformats.org/officeDocument/2006/relationships/audio" Target="../media/camera.wav"/><Relationship Id="rId21" Type="http://schemas.openxmlformats.org/officeDocument/2006/relationships/audio" Target="../media/MASZYNA.WAV"/><Relationship Id="rId22" Type="http://schemas.openxmlformats.org/officeDocument/2006/relationships/audio" Target="../media/camera.wav"/><Relationship Id="rId23" Type="http://schemas.openxmlformats.org/officeDocument/2006/relationships/audio" Target="../media/Podr&#243;&#380;%20Maksymalizacja.wav"/><Relationship Id="rId24" Type="http://schemas.openxmlformats.org/officeDocument/2006/relationships/audio" Target="../media/Podr&#243;&#380;%20Maksymalizacja.wav"/><Relationship Id="rId25" Type="http://schemas.openxmlformats.org/officeDocument/2006/relationships/audio" Target="../media/camera.wav"/><Relationship Id="rId2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Nauka%20B&#322;&#261;d%20programu.wav"/><Relationship Id="rId4" Type="http://schemas.openxmlformats.org/officeDocument/2006/relationships/audio" Target="../media/MASZYNA.WAV"/><Relationship Id="rId5" Type="http://schemas.openxmlformats.org/officeDocument/2006/relationships/audio" Target="../media/DZWONKI.WAV"/><Relationship Id="rId6" Type="http://schemas.openxmlformats.org/officeDocument/2006/relationships/audio" Target="../media/camera.wav"/><Relationship Id="rId7" Type="http://schemas.openxmlformats.org/officeDocument/2006/relationships/audio" Target="../media/Podr&#243;&#380;%20Maksymalizacja.wav"/><Relationship Id="rId8" Type="http://schemas.openxmlformats.org/officeDocument/2006/relationships/audio" Target="../media/Podr&#243;&#380;%20Maksymalizacj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Nauka%20B&#322;&#261;d%20programu.wav"/><Relationship Id="rId5" Type="http://schemas.openxmlformats.org/officeDocument/2006/relationships/audio" Target="../media/camera.wav"/><Relationship Id="rId6" Type="http://schemas.openxmlformats.org/officeDocument/2006/relationships/audio" Target="../media/DZWONKI.WAV"/><Relationship Id="rId7" Type="http://schemas.openxmlformats.org/officeDocument/2006/relationships/audio" Target="../media/camera.wav"/><Relationship Id="rId8" Type="http://schemas.openxmlformats.org/officeDocument/2006/relationships/audio" Target="../media/Podr&#243;&#380;%20Maksymalizacja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audio" Target="../media/Nauka%20B&#322;&#261;d%20programu.wav"/><Relationship Id="rId8" Type="http://schemas.openxmlformats.org/officeDocument/2006/relationships/audio" Target="../media/MASZYNA.WAV"/><Relationship Id="rId9" Type="http://schemas.openxmlformats.org/officeDocument/2006/relationships/audio" Target="../media/MIJANIE.WAV"/><Relationship Id="rId10" Type="http://schemas.openxmlformats.org/officeDocument/2006/relationships/audio" Target="../media/PISKOPON.WAV"/><Relationship Id="rId11" Type="http://schemas.openxmlformats.org/officeDocument/2006/relationships/audio" Target="../media/camera.wav"/><Relationship Id="rId12" Type="http://schemas.openxmlformats.org/officeDocument/2006/relationships/audio" Target="../media/PISKOPON.WAV"/><Relationship Id="rId13" Type="http://schemas.openxmlformats.org/officeDocument/2006/relationships/audio" Target="../media/Podr&#243;&#380;%20Maksymalizacja.wav"/><Relationship Id="rId14" Type="http://schemas.openxmlformats.org/officeDocument/2006/relationships/audio" Target="../media/Podr&#243;&#380;%20Maksymalizacj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Podr&#243;&#380;%20Opr&#243;&#380;nienie%20kosza.wav"/><Relationship Id="rId7" Type="http://schemas.openxmlformats.org/officeDocument/2006/relationships/audio" Target="../media/STLUCZKA.WAV"/><Relationship Id="rId8" Type="http://schemas.openxmlformats.org/officeDocument/2006/relationships/audio" Target="../media/DZWONKI.WAV"/><Relationship Id="rId9" Type="http://schemas.openxmlformats.org/officeDocument/2006/relationships/audio" Target="../media/RZUTNIK.WAV"/><Relationship Id="rId10" Type="http://schemas.openxmlformats.org/officeDocument/2006/relationships/audio" Target="../media/RZUTNIK.WAV"/><Relationship Id="rId11" Type="http://schemas.openxmlformats.org/officeDocument/2006/relationships/audio" Target="../media/RZUTNIK.WAV"/><Relationship Id="rId12" Type="http://schemas.openxmlformats.org/officeDocument/2006/relationships/audio" Target="../media/camera.wav"/><Relationship Id="rId13" Type="http://schemas.openxmlformats.org/officeDocument/2006/relationships/audio" Target="../media/Podr&#243;&#380;%20Maksymalizacja.wav"/><Relationship Id="rId14" Type="http://schemas.openxmlformats.org/officeDocument/2006/relationships/audio" Target="../media/Podr&#243;&#380;%20Maksymalizacj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png"/><Relationship Id="rId12" Type="http://schemas.openxmlformats.org/officeDocument/2006/relationships/audio" Target="../media/Nauka%20B&#322;&#261;d%20programu.wav"/><Relationship Id="rId13" Type="http://schemas.openxmlformats.org/officeDocument/2006/relationships/audio" Target="../media/KASAZARJ.WAV"/><Relationship Id="rId14" Type="http://schemas.openxmlformats.org/officeDocument/2006/relationships/audio" Target="../media/DZWONKI.WAV"/><Relationship Id="rId15" Type="http://schemas.openxmlformats.org/officeDocument/2006/relationships/audio" Target="../media/MIJANIE.WAV"/><Relationship Id="rId16" Type="http://schemas.openxmlformats.org/officeDocument/2006/relationships/audio" Target="../media/PISKOPON.WAV"/><Relationship Id="rId17" Type="http://schemas.openxmlformats.org/officeDocument/2006/relationships/audio" Target="../media/PISKOPON.WAV"/><Relationship Id="rId18" Type="http://schemas.openxmlformats.org/officeDocument/2006/relationships/audio" Target="../media/PISKOPON.WAV"/><Relationship Id="rId19" Type="http://schemas.openxmlformats.org/officeDocument/2006/relationships/audio" Target="../media/PISKOPON.WAV"/><Relationship Id="rId20" Type="http://schemas.openxmlformats.org/officeDocument/2006/relationships/audio" Target="../media/PISKOPON.WAV"/><Relationship Id="rId21" Type="http://schemas.openxmlformats.org/officeDocument/2006/relationships/audio" Target="../media/Podr&#243;&#380;%20Opr&#243;&#380;nienie%20kosza.wav"/><Relationship Id="rId22" Type="http://schemas.openxmlformats.org/officeDocument/2006/relationships/audio" Target="../media/camera.wav"/><Relationship Id="rId23" Type="http://schemas.openxmlformats.org/officeDocument/2006/relationships/audio" Target="../media/Podr&#243;&#380;%20Maksymalizacja.wav"/><Relationship Id="rId24" Type="http://schemas.openxmlformats.org/officeDocument/2006/relationships/audio" Target="../media/Podr&#243;&#380;%20Maksymalizacja.wav"/><Relationship Id="rId25" Type="http://schemas.openxmlformats.org/officeDocument/2006/relationships/audio" Target="../media/camera.wav"/><Relationship Id="rId2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5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.png"/><Relationship Id="rId8" Type="http://schemas.openxmlformats.org/officeDocument/2006/relationships/audio" Target="../media/Nauka%20B&#322;&#261;d%20programu.wav"/><Relationship Id="rId9" Type="http://schemas.openxmlformats.org/officeDocument/2006/relationships/audio" Target="../media/Podr&#243;&#380;%20Opr&#243;&#380;nienie%20kosza.wav"/><Relationship Id="rId10" Type="http://schemas.openxmlformats.org/officeDocument/2006/relationships/audio" Target="../media/DZWONKI.WAV"/><Relationship Id="rId11" Type="http://schemas.openxmlformats.org/officeDocument/2006/relationships/audio" Target="../media/Podr&#243;&#380;%20Opr&#243;&#380;nienie%20kosza.wav"/><Relationship Id="rId12" Type="http://schemas.openxmlformats.org/officeDocument/2006/relationships/audio" Target="../media/SWIST.WAV"/><Relationship Id="rId13" Type="http://schemas.openxmlformats.org/officeDocument/2006/relationships/audio" Target="../media/PISKOPON.WAV"/><Relationship Id="rId14" Type="http://schemas.openxmlformats.org/officeDocument/2006/relationships/audio" Target="../media/SWIST.WAV"/><Relationship Id="rId15" Type="http://schemas.openxmlformats.org/officeDocument/2006/relationships/audio" Target="../media/PISKOPON.WAV"/><Relationship Id="rId16" Type="http://schemas.openxmlformats.org/officeDocument/2006/relationships/audio" Target="../media/SWIST.WAV"/><Relationship Id="rId17" Type="http://schemas.openxmlformats.org/officeDocument/2006/relationships/audio" Target="../media/PISKOPON.WAV"/><Relationship Id="rId18" Type="http://schemas.openxmlformats.org/officeDocument/2006/relationships/audio" Target="../media/SWIST.WAV"/><Relationship Id="rId19" Type="http://schemas.openxmlformats.org/officeDocument/2006/relationships/audio" Target="../media/PISKOPON.WAV"/><Relationship Id="rId20" Type="http://schemas.openxmlformats.org/officeDocument/2006/relationships/audio" Target="../media/camera.wav"/><Relationship Id="rId21" Type="http://schemas.openxmlformats.org/officeDocument/2006/relationships/audio" Target="../media/Podr&#243;&#380;%20Maksymalizacja.wav"/><Relationship Id="rId22" Type="http://schemas.openxmlformats.org/officeDocument/2006/relationships/audio" Target="../media/Podr&#243;&#380;%20Maksymalizacj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audio" Target="../media/Nauka%20B&#322;&#261;d%20programu.wav"/><Relationship Id="rId10" Type="http://schemas.openxmlformats.org/officeDocument/2006/relationships/audio" Target="../media/Podr&#243;&#380;%20Opr&#243;&#380;nienie%20kosza.wav"/><Relationship Id="rId11" Type="http://schemas.openxmlformats.org/officeDocument/2006/relationships/audio" Target="../media/Podr&#243;&#380;%20Opr&#243;&#380;nienie%20kosza.wav"/><Relationship Id="rId12" Type="http://schemas.openxmlformats.org/officeDocument/2006/relationships/audio" Target="../media/DZWONKI.WAV"/><Relationship Id="rId13" Type="http://schemas.openxmlformats.org/officeDocument/2006/relationships/audio" Target="../media/RZUTNIK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.png"/><Relationship Id="rId9" Type="http://schemas.openxmlformats.org/officeDocument/2006/relationships/audio" Target="../media/Nauka%20B&#322;&#261;d%20programu.wav"/><Relationship Id="rId10" Type="http://schemas.openxmlformats.org/officeDocument/2006/relationships/audio" Target="../media/MIJANIE.WAV"/><Relationship Id="rId11" Type="http://schemas.openxmlformats.org/officeDocument/2006/relationships/audio" Target="../media/DZWONKI.WAV"/><Relationship Id="rId12" Type="http://schemas.openxmlformats.org/officeDocument/2006/relationships/audio" Target="../media/DZWONKI.WAV"/><Relationship Id="rId13" Type="http://schemas.openxmlformats.org/officeDocument/2006/relationships/audio" Target="../media/DZWONKI.WAV"/><Relationship Id="rId14" Type="http://schemas.openxmlformats.org/officeDocument/2006/relationships/audio" Target="../media/DZWONKI.WAV"/><Relationship Id="rId15" Type="http://schemas.openxmlformats.org/officeDocument/2006/relationships/audio" Target="../media/DZWONKI.WAV"/><Relationship Id="rId16" Type="http://schemas.openxmlformats.org/officeDocument/2006/relationships/audio" Target="../media/DZWONKI.WAV"/><Relationship Id="rId17" Type="http://schemas.openxmlformats.org/officeDocument/2006/relationships/audio" Target="../media/camera.wav"/><Relationship Id="rId18" Type="http://schemas.openxmlformats.org/officeDocument/2006/relationships/audio" Target="../media/Podr&#243;&#380;%20Maksymalizacja.wav"/><Relationship Id="rId19" Type="http://schemas.openxmlformats.org/officeDocument/2006/relationships/audio" Target="../media/Podr&#243;&#380;%20Maksymalizacja.wav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4.png"/><Relationship Id="rId7" Type="http://schemas.openxmlformats.org/officeDocument/2006/relationships/image" Target="../media/image5.png"/><Relationship Id="rId8" Type="http://schemas.openxmlformats.org/officeDocument/2006/relationships/package" Target="../embeddings/oleObject1.docx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6.png"/><Relationship Id="rId12" Type="http://schemas.openxmlformats.org/officeDocument/2006/relationships/audio" Target="../media/Nauka%20B&#322;&#261;d%20programu.wav"/><Relationship Id="rId13" Type="http://schemas.openxmlformats.org/officeDocument/2006/relationships/audio" Target="../media/DZWONKI.WAV"/><Relationship Id="rId14" Type="http://schemas.openxmlformats.org/officeDocument/2006/relationships/audio" Target="../media/RZUTNIK.WAV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19.png"/><Relationship Id="rId4" Type="http://schemas.openxmlformats.org/officeDocument/2006/relationships/image" Target="../media/image25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37.wmf"/><Relationship Id="rId7" Type="http://schemas.openxmlformats.org/officeDocument/2006/relationships/package" Target="../embeddings/oleObject2.docx"/><Relationship Id="rId8" Type="http://schemas.openxmlformats.org/officeDocument/2006/relationships/image" Target="../media/image38.wmf"/><Relationship Id="rId9" Type="http://schemas.openxmlformats.org/officeDocument/2006/relationships/audio" Target="../media/Nauka%20B&#322;&#261;d%20programu.wav"/><Relationship Id="rId10" Type="http://schemas.openxmlformats.org/officeDocument/2006/relationships/audio" Target="../media/DZWONKI.WAV"/><Relationship Id="rId11" Type="http://schemas.openxmlformats.org/officeDocument/2006/relationships/audio" Target="../media/camera.wav"/><Relationship Id="rId12" Type="http://schemas.openxmlformats.org/officeDocument/2006/relationships/audio" Target="../media/RZUTNIK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STLUCZKA.WAV"/><Relationship Id="rId7" Type="http://schemas.openxmlformats.org/officeDocument/2006/relationships/audio" Target="../media/Podr&#243;&#380;%20Opr&#243;&#380;nienie%20kosza.wav"/><Relationship Id="rId8" Type="http://schemas.openxmlformats.org/officeDocument/2006/relationships/audio" Target="../media/RZUTNIK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RZUTNIK.WAV"/><Relationship Id="rId13" Type="http://schemas.openxmlformats.org/officeDocument/2006/relationships/slideLayout" Target="../slideLayouts/slideLayout1.xml"/><Relationship Id="rId14" Type="http://schemas.openxmlformats.org/officeDocument/2006/relationships/comments" Target="../comments/commen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Nauka%20B&#322;&#261;d%20programu.wav"/><Relationship Id="rId4" Type="http://schemas.openxmlformats.org/officeDocument/2006/relationships/audio" Target="../media/Podr&#243;&#380;%20Opr&#243;&#380;nienie%20kosza.wav"/><Relationship Id="rId5" Type="http://schemas.openxmlformats.org/officeDocument/2006/relationships/audio" Target="../media/DZWONKI.WAV"/><Relationship Id="rId6" Type="http://schemas.openxmlformats.org/officeDocument/2006/relationships/audio" Target="../media/DZWONKI.WAV"/><Relationship Id="rId7" Type="http://schemas.openxmlformats.org/officeDocument/2006/relationships/audio" Target="../media/DZWONKI.WAV"/><Relationship Id="rId8" Type="http://schemas.openxmlformats.org/officeDocument/2006/relationships/audio" Target="../media/DZWONKI.WAV"/><Relationship Id="rId9" Type="http://schemas.openxmlformats.org/officeDocument/2006/relationships/audio" Target="../media/camera.wav"/><Relationship Id="rId10" Type="http://schemas.openxmlformats.org/officeDocument/2006/relationships/audio" Target="../media/Podr&#243;&#380;%20Maksymalizacja.wav"/><Relationship Id="rId11" Type="http://schemas.openxmlformats.org/officeDocument/2006/relationships/audio" Target="../media/Podr&#243;&#380;%20Maksymalizacj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camera.wav"/><Relationship Id="rId7" Type="http://schemas.openxmlformats.org/officeDocument/2006/relationships/audio" Target="../media/DZWONKI.WAV"/><Relationship Id="rId8" Type="http://schemas.openxmlformats.org/officeDocument/2006/relationships/audio" Target="../media/camera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Podr&#243;&#380;%20Maksymalizacj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MASZYNA.WAV"/><Relationship Id="rId7" Type="http://schemas.openxmlformats.org/officeDocument/2006/relationships/audio" Target="../media/PISKOPON.WAV"/><Relationship Id="rId8" Type="http://schemas.openxmlformats.org/officeDocument/2006/relationships/audio" Target="../media/PISKOPON.WAV"/><Relationship Id="rId9" Type="http://schemas.openxmlformats.org/officeDocument/2006/relationships/audio" Target="../media/PISKOPON.WAV"/><Relationship Id="rId10" Type="http://schemas.openxmlformats.org/officeDocument/2006/relationships/audio" Target="../media/camera.wav"/><Relationship Id="rId11" Type="http://schemas.openxmlformats.org/officeDocument/2006/relationships/audio" Target="../media/Podr&#243;&#380;%20Maksymalizacja.wav"/><Relationship Id="rId12" Type="http://schemas.openxmlformats.org/officeDocument/2006/relationships/audio" Target="../media/Podr&#243;&#380;%20Maksymalizacj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Nauka%20B&#322;&#261;d%20programu.wav"/><Relationship Id="rId5" Type="http://schemas.openxmlformats.org/officeDocument/2006/relationships/audio" Target="../media/camera.wav"/><Relationship Id="rId6" Type="http://schemas.openxmlformats.org/officeDocument/2006/relationships/audio" Target="../media/DZWONKI.WAV"/><Relationship Id="rId7" Type="http://schemas.openxmlformats.org/officeDocument/2006/relationships/audio" Target="../media/camera.wav"/><Relationship Id="rId8" Type="http://schemas.openxmlformats.org/officeDocument/2006/relationships/audio" Target="../media/Podr&#243;&#380;%20Maksymalizacja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MASZYNA.WAV"/><Relationship Id="rId7" Type="http://schemas.openxmlformats.org/officeDocument/2006/relationships/audio" Target="../media/PISKOPON.WAV"/><Relationship Id="rId8" Type="http://schemas.openxmlformats.org/officeDocument/2006/relationships/audio" Target="../media/PISKOPON.WAV"/><Relationship Id="rId9" Type="http://schemas.openxmlformats.org/officeDocument/2006/relationships/audio" Target="../media/PISKOPON.WAV"/><Relationship Id="rId10" Type="http://schemas.openxmlformats.org/officeDocument/2006/relationships/audio" Target="../media/camera.wav"/><Relationship Id="rId11" Type="http://schemas.openxmlformats.org/officeDocument/2006/relationships/audio" Target="../media/Podr&#243;&#380;%20Maksymalizacja.wav"/><Relationship Id="rId12" Type="http://schemas.openxmlformats.org/officeDocument/2006/relationships/audio" Target="../media/Podr&#243;&#380;%20Maksymalizacj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Nauka%20B&#322;&#261;d%20programu.wav"/><Relationship Id="rId5" Type="http://schemas.openxmlformats.org/officeDocument/2006/relationships/audio" Target="../media/camera.wav"/><Relationship Id="rId6" Type="http://schemas.openxmlformats.org/officeDocument/2006/relationships/audio" Target="../media/DZWONKI.WAV"/><Relationship Id="rId7" Type="http://schemas.openxmlformats.org/officeDocument/2006/relationships/audio" Target="../media/camera.wav"/><Relationship Id="rId8" Type="http://schemas.openxmlformats.org/officeDocument/2006/relationships/audio" Target="../media/Podr&#243;&#380;%20Maksymalizacja.wav"/><Relationship Id="rId9" Type="http://schemas.openxmlformats.org/officeDocument/2006/relationships/audio" Target="../media/Podr&#243;&#380;%20Maksymalizacj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Nauka%20B&#322;&#261;d%20programu.wav"/><Relationship Id="rId6" Type="http://schemas.openxmlformats.org/officeDocument/2006/relationships/audio" Target="../media/MASZYNA.WAV"/><Relationship Id="rId7" Type="http://schemas.openxmlformats.org/officeDocument/2006/relationships/audio" Target="../media/STLUCZKA.WAV"/><Relationship Id="rId8" Type="http://schemas.openxmlformats.org/officeDocument/2006/relationships/audio" Target="../media/STLUCZKA.WAV"/><Relationship Id="rId9" Type="http://schemas.openxmlformats.org/officeDocument/2006/relationships/audio" Target="../media/STLUCZKA.WAV"/><Relationship Id="rId10" Type="http://schemas.openxmlformats.org/officeDocument/2006/relationships/audio" Target="../media/camera.wav"/><Relationship Id="rId11" Type="http://schemas.openxmlformats.org/officeDocument/2006/relationships/audio" Target="../media/Podr&#243;&#380;%20Maksymalizacja.wav"/><Relationship Id="rId12" Type="http://schemas.openxmlformats.org/officeDocument/2006/relationships/audio" Target="../media/Podr&#243;&#380;%20Maksymalizacj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066680" y="380880"/>
            <a:ext cx="70106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NAKI w RUCHU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ROGOWYM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6172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utor: Grażyna Sołtys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81680" y="5943600"/>
            <a:ext cx="198144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" name="Nauka%20B%C5%82%C4%85d%20program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875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38280" y="95400"/>
            <a:ext cx="5562720" cy="6305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 rot="5400000">
            <a:off x="-1295640" y="2819160"/>
            <a:ext cx="609624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INFORMACYJN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Nauka%20B%C5%82%C4%85d%20programu.wav"/>
      </p:stSnd>
    </p:sndAc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500"/>
                            </p:stCondLst>
                            <p:childTnLst>
                              <p:par>
                                <p:cTn id="41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PIONOWE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AKI INFORMACYJ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oga jednokierunkow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ą kształt kwadratu lub prostokąt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a wyjątkam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ą tło niebieskie lub niebiesko-białe, symbole czarn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łe i czerw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172200" y="2286000"/>
          <a:ext cx="2576520" cy="27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286000"/>
                    <a:ext cx="257652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25"/>
                            </p:stCondLst>
                            <p:childTnLst>
                              <p:par>
                                <p:cTn id="42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25"/>
                            </p:stCondLst>
                            <p:childTnLst>
                              <p:par>
                                <p:cTn id="433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25"/>
                            </p:stCondLst>
                            <p:childTnLst>
                              <p:par>
                                <p:cTn id="43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525"/>
                            </p:stCondLst>
                            <p:childTnLst>
                              <p:par>
                                <p:cTn id="44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9025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525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2025"/>
                            </p:stCondLst>
                            <p:childTnLst>
                              <p:par>
                                <p:cTn id="45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54380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ZNAKI - WYJĄTKI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43200" y="5105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ą kształty wyróżniające się, aby każdy uczestnik ruchu mógł rozpoznać je nawe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ylk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 kształci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gdy są trudne warunki lub słaba widocznoś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086600" y="1922400"/>
          <a:ext cx="1528920" cy="151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922400"/>
                    <a:ext cx="15289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57200" y="1911240"/>
          <a:ext cx="1601640" cy="1517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1240"/>
                    <a:ext cx="160164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800600" y="1917720"/>
          <a:ext cx="1687680" cy="1511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917720"/>
                    <a:ext cx="16876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666880" y="1917720"/>
          <a:ext cx="1457280" cy="15145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1917720"/>
                    <a:ext cx="14572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809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roga z pierwszeństwem przejaz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411480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38862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oniec pierwszeństwa przejaz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73392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tąp pierwszeństwa przejaz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1" name="Nauka%20B%C5%82%C4%85d%20programu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75"/>
                            </p:stCondLst>
                            <p:childTnLst>
                              <p:par>
                                <p:cTn id="47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975"/>
                            </p:stCondLst>
                            <p:childTnLst>
                              <p:par>
                                <p:cTn id="47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9475"/>
                            </p:stCondLst>
                            <p:childTnLst>
                              <p:par>
                                <p:cTn id="48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475"/>
                            </p:stCondLst>
                            <p:childTnLst>
                              <p:par>
                                <p:cTn id="48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6975"/>
                            </p:stCondLst>
                            <p:childTnLst>
                              <p:par>
                                <p:cTn id="49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2975"/>
                            </p:stCondLst>
                            <p:childTnLst>
                              <p:par>
                                <p:cTn id="49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4475"/>
                            </p:stCondLst>
                            <p:childTnLst>
                              <p:par>
                                <p:cTn id="50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475"/>
                            </p:stCondLst>
                            <p:childTnLst>
                              <p:par>
                                <p:cTn id="50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1975"/>
                            </p:stCondLst>
                            <p:childTnLst>
                              <p:par>
                                <p:cTn id="51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3475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3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975"/>
                            </p:stCondLst>
                            <p:childTnLst>
                              <p:par>
                                <p:cTn id="52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2475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3975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5475"/>
                            </p:stCondLst>
                            <p:childTnLst>
                              <p:par>
                                <p:cTn id="53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2362320"/>
            <a:ext cx="67816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ki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ziom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ą malowane n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ezd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postaci pasów, strzałek, napisów, symboli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oją obecnością usprawniają ruch na drodze oraz powtarzają  informacje zawarte na znakach pion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45720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ZNAKI POZIO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Nauka%20B%C5%82%C4%85d%20programu.wav"/>
      </p:stSnd>
    </p:sndAc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9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400"/>
                            </p:stCondLst>
                            <p:childTnLst>
                              <p:par>
                                <p:cTn id="55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90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4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900"/>
                            </p:stCondLst>
                            <p:childTnLst>
                              <p:par>
                                <p:cTn id="56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95480" y="409680"/>
            <a:ext cx="4953240" cy="5533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 rot="5400000">
            <a:off x="-838080" y="2895480"/>
            <a:ext cx="579132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OZIO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Nauka%20B%C5%82%C4%85d%20programu.wav"/>
      </p:stSnd>
    </p:sndAc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500"/>
                            </p:stCondLst>
                            <p:childTnLst>
                              <p:par>
                                <p:cTn id="58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POZIOME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LOWANE NA JEZ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181480" y="4495680"/>
          <a:ext cx="32767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495680"/>
                    <a:ext cx="32767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5181480" y="2362320"/>
          <a:ext cx="333216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362320"/>
                    <a:ext cx="33321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600200" y="3048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zejś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la piesz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6520" y="4952880"/>
            <a:ext cx="31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ia bezwzględnego za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7" name="Nauka%20B%C5%82%C4%85d%20programu.wav"/>
      </p:stSnd>
    </p:sndAc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25"/>
                            </p:stCondLst>
                            <p:childTnLst>
                              <p:par>
                                <p:cTn id="61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IJAN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3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3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425"/>
                            </p:stCondLst>
                            <p:childTnLst>
                              <p:par>
                                <p:cTn id="61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925"/>
                            </p:stCondLst>
                            <p:childTnLst>
                              <p:par>
                                <p:cTn id="62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425"/>
                            </p:stCondLst>
                            <p:childTnLst>
                              <p:par>
                                <p:cTn id="62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7925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9425"/>
                            </p:stCondLst>
                            <p:childTnLst>
                              <p:par>
                                <p:cTn id="6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925"/>
                            </p:stCondLst>
                            <p:childTnLst>
                              <p:par>
                                <p:cTn id="63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2425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925"/>
                            </p:stCondLst>
                            <p:childTnLst>
                              <p:par>
                                <p:cTn id="64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600200" y="83808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YGNAŁY ŚWIETLN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23840" cy="1825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0" t="8651" r="0" b="58191"/>
          <a:stretch/>
        </p:blipFill>
        <p:spPr>
          <a:xfrm>
            <a:off x="762120" y="2362320"/>
            <a:ext cx="7696080" cy="2743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895480" y="5181480"/>
            <a:ext cx="990720" cy="986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ó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5181480"/>
            <a:ext cx="988920" cy="986040"/>
          </a:xfrm>
          <a:prstGeom prst="ellipse">
            <a:avLst/>
          </a:prstGeom>
          <a:solidFill>
            <a:srgbClr val="fbe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wa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5181480"/>
            <a:ext cx="988920" cy="9860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d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000"/>
                            </p:stCondLst>
                            <p:childTnLst>
                              <p:par>
                                <p:cTn id="67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700" spc="-1" strike="noStrike">
                <a:solidFill>
                  <a:srgbClr val="ffff00"/>
                </a:solidFill>
                <a:latin typeface="Arial Narrow"/>
              </a:rPr>
              <a:t>SYGNAŁY ŚWIETLNE</a:t>
            </a:r>
            <a:endParaRPr b="1" lang="en-US" sz="7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819160" y="1828800"/>
            <a:ext cx="3429000" cy="457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YGNALIZ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114800" y="3886200"/>
          <a:ext cx="961920" cy="104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886200"/>
                    <a:ext cx="9619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114800" y="5029200"/>
          <a:ext cx="952560" cy="102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5029200"/>
                    <a:ext cx="9525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114800" y="2743200"/>
          <a:ext cx="952560" cy="103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2743200"/>
                    <a:ext cx="9525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7240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9400" y="39625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W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760" y="510552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Ź; J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4876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TRZYMAJ SIĘ, JEŚLI DROGA WOLNA - JEDŹ OSTROŻ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181480" y="5029200"/>
          <a:ext cx="952560" cy="1028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81480" y="5029200"/>
                    <a:ext cx="9525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067640" y="52578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klikn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9200" y="41148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klikn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5160" y="29718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klikn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0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12" name="Nauka%20B%C5%82%C4%85d%20programu.wav"/>
      </p:stSnd>
    </p:sndAc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KASAZARJ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0"/>
                            </p:stCondLst>
                            <p:childTnLst>
                              <p:par>
                                <p:cTn id="72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IJAN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6500"/>
                            </p:stCondLst>
                            <p:childTnLst>
                              <p:par>
                                <p:cTn id="72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7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9500"/>
                            </p:stCondLst>
                            <p:childTnLst>
                              <p:par>
                                <p:cTn id="78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09480" y="457200"/>
            <a:ext cx="80773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 Narrow"/>
              </a:rPr>
              <a:t>HIERARCHIA ZNAKÓW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Każdy uczestnik ruchu jest obowiązany stosować się do znaków, norm, sygnałów </a:t>
            </a:r>
            <a:br>
              <a:rPr sz="2800"/>
            </a:b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i poleceń w następującej kolejności: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2819520"/>
            <a:ext cx="30477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polecenia i sygnały </a:t>
            </a:r>
            <a:br>
              <a:rPr sz="2400"/>
            </a:b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dawane przez osoby </a:t>
            </a:r>
            <a:br>
              <a:rPr sz="2400"/>
            </a:b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kierujące ruch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sygnały świetl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znaki drogow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normy zawarte </a:t>
            </a:r>
            <a:br>
              <a:rPr sz="2400"/>
            </a:b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w przepis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924680" y="3429000"/>
            <a:ext cx="555840" cy="990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 flipV="1">
            <a:off x="5943600" y="4266720"/>
            <a:ext cx="1752480" cy="38124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903320" y="5331960"/>
            <a:ext cx="1065240" cy="1508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rcRect l="22014" t="7181" r="56097" b="3023"/>
          <a:stretch/>
        </p:blipFill>
        <p:spPr>
          <a:xfrm>
            <a:off x="380880" y="2362320"/>
            <a:ext cx="917640" cy="1752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V="1">
            <a:off x="5638680" y="5562720"/>
            <a:ext cx="1447920" cy="30456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315200" y="5105520"/>
          <a:ext cx="765000" cy="79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5105520"/>
                    <a:ext cx="7650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1295280" y="4572000"/>
            <a:ext cx="639720" cy="1066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V="1">
            <a:off x="1371600" y="3200040"/>
            <a:ext cx="1752480" cy="2286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8" name="Nauka%20B%C5%82%C4%85d%20programu.wav"/>
      </p:stSnd>
    </p:sndAc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900"/>
                            </p:stCondLst>
                            <p:childTnLst>
                              <p:par>
                                <p:cTn id="81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W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2400"/>
                            </p:stCondLst>
                            <p:childTnLst>
                              <p:par>
                                <p:cTn id="81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39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W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400"/>
                            </p:stCondLst>
                            <p:childTnLst>
                              <p:par>
                                <p:cTn id="83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6900"/>
                            </p:stCondLst>
                            <p:childTnLst>
                              <p:par>
                                <p:cTn id="83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W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8400"/>
                            </p:stCondLst>
                            <p:childTnLst>
                              <p:par>
                                <p:cTn id="84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9900"/>
                            </p:stCondLst>
                            <p:childTnLst>
                              <p:par>
                                <p:cTn id="84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W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1400"/>
                            </p:stCondLst>
                            <p:childTnLst>
                              <p:par>
                                <p:cTn id="85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29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440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900"/>
                            </p:stCondLst>
                            <p:childTnLst>
                              <p:par>
                                <p:cTn id="8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7400"/>
                            </p:stCondLst>
                            <p:childTnLst>
                              <p:par>
                                <p:cTn id="87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 rot="21466200">
            <a:off x="228600" y="28440"/>
            <a:ext cx="4952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8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MINI TEST-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 rot="21466200">
            <a:off x="5333760" y="0"/>
            <a:ext cx="3504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8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ocenia nauczyciel</a:t>
            </a:r>
            <a:endParaRPr b="0" lang="en-US" sz="12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85800" y="1219320"/>
            <a:ext cx="7772400" cy="4803120"/>
            <a:chOff x="685800" y="1219320"/>
            <a:chExt cx="7772400" cy="4803120"/>
          </a:xfrm>
        </p:grpSpPr>
        <p:sp>
          <p:nvSpPr>
            <p:cNvPr id="275" name=""/>
            <p:cNvSpPr/>
            <p:nvPr/>
          </p:nvSpPr>
          <p:spPr>
            <a:xfrm>
              <a:off x="838080" y="121932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 Który znak jest znakiem ostrzegawczy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86000" y="320040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   B)    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86000" y="556272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   B)   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" y="380988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 Który znak jest znakiem poziomy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2286000" y="2057400"/>
              <a:ext cx="2360520" cy="887400"/>
              <a:chOff x="2286000" y="2057400"/>
              <a:chExt cx="2360520" cy="8874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1"/>
              <a:srcRect l="52475" t="22518" r="37016" b="69630"/>
              <a:stretch/>
            </p:blipFill>
            <p:spPr>
              <a:xfrm>
                <a:off x="3825720" y="2057400"/>
                <a:ext cx="820800" cy="84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2"/>
              <a:srcRect l="0" t="42533" r="86246" b="46323"/>
              <a:stretch/>
            </p:blipFill>
            <p:spPr>
              <a:xfrm>
                <a:off x="2286000" y="2058840"/>
                <a:ext cx="798480" cy="885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82" name=""/>
            <p:cNvGraphicFramePr/>
            <p:nvPr/>
          </p:nvGraphicFramePr>
          <p:xfrm>
            <a:off x="5334120" y="4572000"/>
            <a:ext cx="676080" cy="843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4572000"/>
                      <a:ext cx="67608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"/>
            <p:cNvGraphicFramePr/>
            <p:nvPr/>
          </p:nvGraphicFramePr>
          <p:xfrm>
            <a:off x="3902040" y="4572000"/>
            <a:ext cx="669960" cy="838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02040" y="4572000"/>
                      <a:ext cx="66996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86" name="" descr=""/>
            <p:cNvPicPr/>
            <p:nvPr/>
          </p:nvPicPr>
          <p:blipFill>
            <a:blip r:embed="rId7"/>
            <a:stretch/>
          </p:blipFill>
          <p:spPr>
            <a:xfrm>
              <a:off x="2209680" y="4572000"/>
              <a:ext cx="91440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8"/>
            <a:stretch/>
          </p:blipFill>
          <p:spPr>
            <a:xfrm>
              <a:off x="5410080" y="2133720"/>
              <a:ext cx="914400" cy="822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  <p:sndAc>
      <p:stSnd>
        <p:snd r:embed="rId9" name="Nauka%20B%C5%82%C4%85d%20programu.wav"/>
      </p:stSnd>
    </p:sndAc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8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4500"/>
                            </p:stCondLst>
                            <p:childTnLst>
                              <p:par>
                                <p:cTn id="8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14400" y="609480"/>
            <a:ext cx="7772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993300"/>
                  </a:outerShdw>
                </a:effectLst>
                <a:latin typeface="Arial Black"/>
              </a:rPr>
              <a:t>ZNAKI DROGOW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07932" dir="18900000" blurRad="0" rotWithShape="0">
                  <a:srgbClr val="9933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476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ION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2438280"/>
            <a:ext cx="647676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OZI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048120"/>
            <a:ext cx="64767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YGNAŁY ŚWIET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657600"/>
            <a:ext cx="64767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ZNAKI - WYJĄT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876920"/>
            <a:ext cx="64767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INI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267080"/>
            <a:ext cx="6476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07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HIERARCHIA ZNA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 rot="16557000">
            <a:off x="822204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  <p:sndAc>
      <p:stSnd>
        <p:snd r:embed="rId9" name="Nauka%20B%C5%82%C4%85d%20programu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IJANI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500"/>
                            </p:stCondLst>
                            <p:childTnLst>
                              <p:par>
                                <p:cTn id="7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8100000"/>
          </a:gra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33520" y="228600"/>
            <a:ext cx="8381880" cy="6046560"/>
            <a:chOff x="533520" y="228600"/>
            <a:chExt cx="8381880" cy="60465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5486400" y="5016240"/>
              <a:ext cx="66024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2438280" y="881280"/>
              <a:ext cx="76212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3"/>
            <a:srcRect l="84012" t="0" r="1823" b="89130"/>
            <a:stretch/>
          </p:blipFill>
          <p:spPr>
            <a:xfrm>
              <a:off x="5486400" y="881280"/>
              <a:ext cx="76212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4"/>
            <a:srcRect l="66148" t="0" r="18109" b="88962"/>
            <a:stretch/>
          </p:blipFill>
          <p:spPr>
            <a:xfrm>
              <a:off x="2362320" y="2840040"/>
              <a:ext cx="8380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5"/>
            <a:srcRect l="66684" t="13104" r="15996" b="75881"/>
            <a:stretch/>
          </p:blipFill>
          <p:spPr>
            <a:xfrm>
              <a:off x="2362320" y="5016240"/>
              <a:ext cx="914400" cy="7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62120" y="2286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 Który znak jest znakiem nakaz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38280" y="167904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B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520" y="2259360"/>
              <a:ext cx="83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. Który znak jest znakiem wyjątkowy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370872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B)   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4143960"/>
              <a:ext cx="76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. Który znak oznacza drogę posiadającą pierwszeństwo przejazd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90920" y="5815440"/>
              <a:ext cx="37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B)   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6"/>
            <a:stretch/>
          </p:blipFill>
          <p:spPr>
            <a:xfrm>
              <a:off x="5486400" y="2840040"/>
              <a:ext cx="762120" cy="7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7"/>
            <a:srcRect l="0" t="42533" r="86246" b="46323"/>
            <a:stretch/>
          </p:blipFill>
          <p:spPr>
            <a:xfrm>
              <a:off x="4038480" y="2767320"/>
              <a:ext cx="863640" cy="912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03" name=""/>
            <p:cNvGraphicFramePr/>
            <p:nvPr/>
          </p:nvGraphicFramePr>
          <p:xfrm>
            <a:off x="4262400" y="735840"/>
            <a:ext cx="309600" cy="961200"/>
          </p:xfrm>
          <a:graphic>
            <a:graphicData uri="http://schemas.openxmlformats.org/presentationml/2006/ole">
              <p:oleObj progId="Word.Document.12" r:id="rId8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62400" y="735840"/>
                      <a:ext cx="309600" cy="96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5" name=""/>
            <p:cNvGraphicFramePr/>
            <p:nvPr/>
          </p:nvGraphicFramePr>
          <p:xfrm>
            <a:off x="3962520" y="4943520"/>
            <a:ext cx="942840" cy="853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962520" y="4943520"/>
                      <a:ext cx="942840" cy="85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dissolve/>
    <p:sndAc>
      <p:stSnd>
        <p:snd r:embed="rId12" name="Nauka%20B%C5%82%C4%85d%20programu.wav"/>
      </p:stSnd>
    </p:sndAc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" action="ppaction://hlinkshowjump?jump=lastslide"/>
          </p:cNvPr>
          <p:cNvSpPr/>
          <p:nvPr/>
        </p:nvSpPr>
        <p:spPr>
          <a:xfrm>
            <a:off x="304920" y="6019920"/>
            <a:ext cx="22096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oniec tes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914400" y="228600"/>
            <a:ext cx="7619760" cy="6174720"/>
            <a:chOff x="914400" y="228600"/>
            <a:chExt cx="7619760" cy="6174720"/>
          </a:xfrm>
        </p:grpSpPr>
        <p:sp>
          <p:nvSpPr>
            <p:cNvPr id="309" name=""/>
            <p:cNvSpPr/>
            <p:nvPr/>
          </p:nvSpPr>
          <p:spPr>
            <a:xfrm>
              <a:off x="914400" y="2286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 Który znak zabrania ruch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1"/>
            <a:srcRect l="28016" t="42301" r="57249" b="46571"/>
            <a:stretch/>
          </p:blipFill>
          <p:spPr>
            <a:xfrm>
              <a:off x="4114800" y="990720"/>
              <a:ext cx="90648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2819160" y="1143000"/>
              <a:ext cx="78768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2971800" y="203364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   B)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43000" y="2667240"/>
              <a:ext cx="7162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. Wskaż prawidłową kolejność, według której musisz się podporządkować, gdy spotkasz wszystkie możliwości na skrzyżowaniu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3"/>
            <a:srcRect l="0" t="10502" r="87443" b="61639"/>
            <a:stretch/>
          </p:blipFill>
          <p:spPr>
            <a:xfrm>
              <a:off x="2514600" y="4267440"/>
              <a:ext cx="766800" cy="14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4"/>
            <a:srcRect l="0" t="8944" r="79643" b="3023"/>
            <a:stretch/>
          </p:blipFill>
          <p:spPr>
            <a:xfrm>
              <a:off x="3962160" y="3962520"/>
              <a:ext cx="103356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590560" y="5943600"/>
              <a:ext cx="44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                   B)                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7" name=""/>
            <p:cNvGraphicFramePr/>
            <p:nvPr/>
          </p:nvGraphicFramePr>
          <p:xfrm>
            <a:off x="5638680" y="1143000"/>
            <a:ext cx="733320" cy="7239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38680" y="1143000"/>
                      <a:ext cx="7333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5790960" y="4648320"/>
            <a:ext cx="723960" cy="73332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0960" y="4648320"/>
                      <a:ext cx="723960" cy="73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9" name="Nauka%20B%C5%82%C4%85d%20programu.wav"/>
      </p:stSnd>
    </p:sndAc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523880" y="1371600"/>
            <a:ext cx="69343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ONIEC 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EZENTACJI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NAKÓW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ROGOWYCH</a:t>
            </a:r>
            <a:endParaRPr b="0" lang="en-US" sz="2400" spc="1" strike="noStrike">
              <a:ln w="88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c0c0c0"/>
          </a:solidFill>
          <a:ln cap="sq"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144000" y="0"/>
          <a:ext cx="163836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0"/>
                    <a:ext cx="163836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>
            <a:hlinkClick r:id="" action="ppaction://hlinkshowjump?jump=previousslide"/>
          </p:cNvPr>
          <p:cNvSpPr/>
          <p:nvPr/>
        </p:nvSpPr>
        <p:spPr>
          <a:xfrm flipH="1">
            <a:off x="2819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lastslide"/>
          </p:cNvPr>
          <p:cNvSpPr/>
          <p:nvPr/>
        </p:nvSpPr>
        <p:spPr>
          <a:xfrm>
            <a:off x="304920" y="1981080"/>
            <a:ext cx="2209680" cy="520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81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ceń się s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500"/>
                            </p:stCondLst>
                            <p:childTnLst>
                              <p:par>
                                <p:cTn id="93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9000"/>
                            </p:stCondLst>
                            <p:childTnLst>
                              <p:par>
                                <p:cTn id="9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ZUTNI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1676520"/>
            <a:ext cx="6400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ady ruchu drogowego podawane są często za pomocą znaków drogowy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k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ionow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ieszczane są pionowo  na słupkach, słupach, ścianach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ki te wyrażają ostrzeżenia, zakazy, nakazy i informacje, dlatego też dzielą się n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19320" y="4267080"/>
            <a:ext cx="3352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9ad4b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STRZEGAWCZ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9ad4b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81280" y="4800600"/>
            <a:ext cx="1981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d7b8de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ZAKAZU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d7b8de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0" y="5257800"/>
            <a:ext cx="1905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AKAZU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562720" y="5791320"/>
            <a:ext cx="2895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1a2bb"/>
                    </a:gs>
                    <a:gs pos="100000">
                      <a:srgbClr val="ccff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NFORMACYJN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1a2bb"/>
                  </a:gs>
                  <a:gs pos="100000">
                    <a:srgbClr val="ccff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 rot="16557000">
            <a:off x="822204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7224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66"/>
                </a:solidFill>
                <a:latin typeface="Arial Narrow"/>
              </a:rPr>
              <a:t>ZNAKI</a:t>
            </a:r>
            <a:r>
              <a:rPr b="1" i="1" lang="en-US" sz="80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i="1" lang="en-US" sz="8000" spc="-1" strike="noStrike">
                <a:solidFill>
                  <a:srgbClr val="ffff66"/>
                </a:solidFill>
                <a:latin typeface="Arial Narrow"/>
              </a:rPr>
              <a:t>PIONOW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Nauka%20B%C5%82%C4%85d%20programu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odr%C3%B3%C5%BC%20Opr%C3%B3%C5%BCnienie%20kosz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28600"/>
            <a:ext cx="5584680" cy="6172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5400000">
            <a:off x="-1295640" y="2666880"/>
            <a:ext cx="640080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STRZEGAWCZ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 rot="16557000">
            <a:off x="822204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4872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PIONOWE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NAKI OSTRZEGAWC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zejście dla piesz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ą kształt trójkąta równobocznego z czerwoną obwódką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żółte tło i czarne sym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715000" y="2133720"/>
          <a:ext cx="2860560" cy="28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133720"/>
                    <a:ext cx="286056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25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25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25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25"/>
                            </p:stCondLst>
                            <p:childTnLst>
                              <p:par>
                                <p:cTn id="19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25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525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25"/>
                            </p:stCondLst>
                            <p:childTnLst>
                              <p:par>
                                <p:cTn id="21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5405400" cy="6172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5400000">
            <a:off x="-1028520" y="2857320"/>
            <a:ext cx="571500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ZAKAZU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Nauka%20B%C5%82%C4%85d%20programu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PIONOWE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AKI ZAKA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akaz wjazdu rower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ą kształt koła, zwykle białe tło, czerwoną obwódk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zarne sym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943600" y="2209680"/>
          <a:ext cx="2760840" cy="27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209680"/>
                    <a:ext cx="276084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7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25"/>
                            </p:stCondLst>
                            <p:childTnLst>
                              <p:par>
                                <p:cTn id="26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25"/>
                            </p:stCondLst>
                            <p:childTnLst>
                              <p:par>
                                <p:cTn id="26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25"/>
                            </p:stCondLst>
                            <p:childTnLst>
                              <p:par>
                                <p:cTn id="27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SKOP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525"/>
                            </p:stCondLst>
                            <p:childTnLst>
                              <p:par>
                                <p:cTn id="27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25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525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25"/>
                            </p:stCondLst>
                            <p:childTnLst>
                              <p:par>
                                <p:cTn id="29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762120"/>
            <a:ext cx="6080040" cy="4846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 rot="5400000">
            <a:off x="-1300320" y="2900160"/>
            <a:ext cx="6019920" cy="113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NAKAZU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Nauka%20B%C5%82%C4%85d%20programu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Arial Narrow"/>
              </a:rPr>
              <a:t>PIONOWE</a:t>
            </a:r>
            <a:endParaRPr b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AKI NAKA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kaz jazdy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 prawo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ub w le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ą kształt koł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ło niebieski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iałe sym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019920" y="2133720"/>
          <a:ext cx="277812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133720"/>
                    <a:ext cx="277812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410080"/>
          <a:ext cx="91440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>
                    <a:hlinkClick r:id="" action="ppaction://hlinkshowjump?jump=endshow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914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>
            <a:hlinkClick r:id="" action="ppaction://hlinkshowjump?jump=previousslide"/>
          </p:cNvPr>
          <p:cNvSpPr/>
          <p:nvPr/>
        </p:nvSpPr>
        <p:spPr>
          <a:xfrm flipH="1">
            <a:off x="320040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e7517"/>
              </a:gs>
              <a:gs pos="100000">
                <a:srgbClr val="ccff33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te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5105520" y="6372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5e7517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 rot="16557000">
            <a:off x="8146080" y="6326640"/>
            <a:ext cx="690480" cy="371520"/>
          </a:xfrm>
          <a:custGeom>
            <a:avLst/>
            <a:gdLst>
              <a:gd name="textAreaLeft" fmla="*/ 120600 w 690480"/>
              <a:gd name="textAreaRight" fmla="*/ 500760 w 690480"/>
              <a:gd name="textAreaTop" fmla="*/ 49680 h 371520"/>
              <a:gd name="textAreaBottom" fmla="*/ 32184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Nauka%20B%C5%82%C4%85d%20programu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SZYN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25"/>
                            </p:stCondLst>
                            <p:childTnLst>
                              <p:par>
                                <p:cTn id="34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25"/>
                            </p:stCondLst>
                            <p:childTnLst>
                              <p:par>
                                <p:cTn id="35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25"/>
                            </p:stCondLst>
                            <p:childTnLst>
                              <p:par>
                                <p:cTn id="35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TLUCZ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025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525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odr%C3%B3%C5%BC%20Maksymalizacj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25"/>
                            </p:stCondLst>
                            <p:childTnLst>
                              <p:par>
                                <p:cTn id="37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9:48:50Z</dcterms:created>
  <dc:creator>Grazyna Soltysiak</dc:creator>
  <dc:description/>
  <dc:language>en-US</dc:language>
  <cp:lastModifiedBy>1</cp:lastModifiedBy>
  <dcterms:modified xsi:type="dcterms:W3CDTF">2003-05-23T06:26:46Z</dcterms:modified>
  <cp:revision>173</cp:revision>
  <dc:subject/>
  <dc:title>Bez tytułu slajdu</dc:title>
</cp:coreProperties>
</file>